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C2D9-0BEA-4313-B521-FD686F027E44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32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Автор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Рассказова Н.Л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МОУ «СОШ №8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E44E-7D53-40EE-9FF2-DE20F839CF14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3340-0965-4104-BFBF-6E59805EE261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17BB-65D7-474B-9ECF-D3F754BF408E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CFD9-C6BE-4C4A-9050-5C3CE6307EE4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§ 2, 3, стр. 9 упр. 4, 5 ( устно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стр. 13 и 14 упр. 1, 5,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(по желанию)</a:t>
            </a:r>
            <a:r>
              <a:rPr b="0" lang="ru-RU" sz="1000" spc="-1" strike="noStrike">
                <a:solidFill>
                  <a:srgbClr val="4f81bd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275C-C579-4A88-A2EB-97678FFD69F5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Цель: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историей развития химии.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25AE-34C2-42DF-AB6F-E34E26F4A719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gency FB"/>
              </a:rPr>
              <a:t>Египетские жре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48EE-37D0-404B-9E33-82E86087068D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20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Calibri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B32B-E98F-4590-A23A-D1DC0C656101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omic Sans MS"/>
              </a:rPr>
              <a:t>Алхи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BE73-96F7-4208-A626-ACE9FC26EC5D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гор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870E-C946-421E-A1AC-B526CD9E1F97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4f4f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074-7D66-48D9-B314-F490B43C29D8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49BC-D6A5-4695-99B8-26036D74F513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EE0A-8503-4227-8D84-5470692B6297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570-0B03-40FA-9D12-0469EF6F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CB9-B219-4010-A3CE-648DF246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838-3C58-4A1F-A927-2DBEBC6F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534-C142-4047-BCF5-33C37EE6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A58-8E62-4546-80A2-B004FFFA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875-C744-40ED-A833-65F9CCA3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136-4099-469D-9ECD-6A2866B9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C47-FC34-4B6A-8CB0-C476E016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786-D78F-46A2-9C86-B5F6FF94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B17-A88F-4BFF-BA99-BBB08E08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E28-FF5B-4E9A-8264-84E01720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CF7-110C-4DA2-A18B-A98EDC2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943-F148-4C89-BF8B-46590290C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LEGION</cp:lastModifiedBy>
  <dcterms:modified xsi:type="dcterms:W3CDTF">2015-05-01T11:09:10Z</dcterms:modified>
  <cp:revision>18</cp:revision>
  <dc:subject/>
  <dc:title>Превращение веществ. История химии.</dc:title>
</cp:coreProperties>
</file>